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C98-304B-4AAB-AA96-FDD22486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CEB-4B0E-4FC0-9D46-2DC69104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E57-CAC4-48C0-B312-B316E91E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5FE-F379-4935-95AF-33440666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885-2212-418B-B334-C84E7FA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5F4-E379-450E-9BFB-03E3F73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1F9-25E8-4C8C-9512-4E17815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735-ED3C-48E1-94A5-E16C5710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CA7-76F0-4899-9F60-B2AF5F8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EA4-2E9F-4131-890B-1230E88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50A-4695-4FB3-BDDC-0A0DAB4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58F-2A9C-4795-9CFF-6516E9B9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732-C96D-43CE-85B9-2A4B27C078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484280"/>
            <a:ext cx="756144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listopadzie 1918 roku w Poznaniu, składała się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z polskich działaczy politycznych skupionych wcześniej przy działającym od 1916 roku w warunkach konspiracji Centralnym Komitecie Obywate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sariatu NRL weszli m.in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: Wojciech Korfant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ks. Stanisław Adamski oraz Józef Rymar , a jej reprezentantem przy Komitecie Narodowym Polski w Paryżu był Władysław Grabs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NRL było ewolucyjne i pokojowe przejęcie władzy na terenie Wielkopolski .Po wybuchu powstania przejęła faktyczną władzę na jej ter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ziałała do końca sierpnia 1919 roku by, następnie przekazać swoje kompetencje władzom centralnym w Warsza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3:57Z</dcterms:created>
  <dc:creator>rena</dc:creator>
  <dc:description/>
  <dc:language>en-US</dc:language>
  <cp:lastModifiedBy>IB</cp:lastModifiedBy>
  <dcterms:modified xsi:type="dcterms:W3CDTF">2013-03-14T17:22:33Z</dcterms:modified>
  <cp:revision>5</cp:revision>
  <dc:subject/>
  <dc:title>PowerPoint Presentation</dc:title>
</cp:coreProperties>
</file>